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920D-B5BE-4CE3-BB63-C1EE0637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5FC-D570-4E45-9A2E-B91B317F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450-60A4-41FA-ADE5-8EB82CAD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B05-A5FE-4D04-94F8-A81F1FCA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4BBD-22EE-44D6-A882-E74A6808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32A1-662E-4DCE-AC98-13E626DA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0AC9-015B-41F9-800D-9B7A5A48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2DC8-8CB8-48E1-9640-FC2312FD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B279-FFEC-41CF-9591-31CE2CB4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3CA2-3FBC-4B82-9EFA-CEAF7BD4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3E7A-EF85-4F55-A12E-358FD04B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E225-D76D-47FC-ACA7-821B1F96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41DB-C541-451A-AECF-19E042CB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E983-04C4-4C97-8F5E-043CF29D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96F7-7E35-43C5-B0D8-26D1744C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7173-E088-40F1-8ECA-4E5216D5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12A5-B80C-45DC-9461-F8B5F478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AFB5B-112A-45F8-9E08-08082B35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F8A2-1C6F-4EC6-B491-3AFD7D82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75A70-B52F-4841-B63C-20207FC2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1435B-C291-46CC-8FF1-512917F0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9743B-FDBA-4346-B79B-AAF1EE64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2D9-6B5A-488A-BD8B-0ED95701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5CDA9-BDFB-4CFC-9B75-0A78B237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84A3A-2906-4570-B941-38CFA95B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EC133-1071-43FB-AF9D-867FC1C1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40AE1-AC6E-475C-A7F8-AC47C649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46758-EA50-4D3F-B623-E7A0B5DB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5B7DC-116D-4EA8-96C1-9374DCC9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D365A-3E2B-4337-B999-F97EADEB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8B631-008C-45BA-B2D8-AB554B00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587B5-9E01-4467-AEC4-F07C394B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E3BB0-BEAF-4338-AFD2-C9017C7F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D2E-80DD-4273-A081-F6018159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64CE2-9D00-4C12-81B3-265DB6D9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4A7E3-1D3D-4D12-916F-15F8967F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10ED4-2983-473C-81B6-33C1FDF6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841A6-C369-49A2-8AEF-DAA1B500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33C68-5868-4490-A3F3-2F67A5AB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1BECC-919B-450E-B1BF-DA8DF2E3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77C7A-FBB9-4867-80FD-E9FD2EB6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78ED5-4E7B-4D8E-9E51-C4D2F665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CBF93-2C94-4D0F-BE92-0F80D236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A6DE2-11FC-4DD2-9F04-51392B85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596-AE08-4DFA-A226-B6B54825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D8733-3FF3-431C-997B-E195C4CB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5F9C0-1141-4D17-A948-4E205AB8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02BCE-DBFC-4B8C-A5A2-64A230F9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B1438-3F20-42DE-87B3-F63E899B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B9542-945A-438F-9423-31CB11EC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26804-7F2B-47AA-868A-E1D74544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0E1A1-C6E7-44D7-A022-B0953E8A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65E47-15EA-4F9B-85B0-D04954B5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54D97-BA0F-4A4E-A701-433D913E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B5ED7-369C-4B86-AC44-7A76FCA3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5DB-B98D-4DB0-A87A-FEDD13D5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35FBA-5483-452C-84B2-49ED8898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E10C7-1935-4866-A83D-94EF3B68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D0F8E-712F-4BFA-99A2-D39BD39F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F5507-2C47-45F7-89AE-8D584271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67FF2-BB94-4301-8002-EB19AF65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CB582-C1EB-40CA-9704-E2E31441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B0217-4A97-4A08-89F6-7B7B2015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D923E-CA98-4769-ADB2-810FB30D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B38DD-1D35-4583-9C2D-421CAFB8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3DC9F-87A4-4CBC-9FE6-8E5C3EB5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563-A8B9-4C93-812B-E976E77B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B163E-F02B-4D75-8896-4DCFC7CD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33758-65DF-42AD-93AB-D3D2DBAF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E7A6F-0DC1-4012-8B5C-9A99BBC7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ACC7F-3713-4CC2-B696-7AD06C9A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E9FC3-EB3F-4855-B34E-72DA08DF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71756-6291-434D-BA85-2AA2F686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F1B13-BAC6-4A97-8D2B-0C97EDB1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2ABB6-E882-48F9-911D-41381F64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3E67D-2FD0-4C26-8B10-FB0073C2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8BB86-3558-48DE-B4EC-A2109503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1CF-74D0-4E61-8144-8735DE86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33174-34B6-4A6D-955A-99A3914E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6131C-03CE-4B2D-B8B5-CD8E6BCE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C823B-4F36-4899-B6D9-55957795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5C211-0A34-41E6-B210-AB141EE7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9FD40-33F4-4E7E-ABC1-D2E202C1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F281-8AF4-472C-BFFB-2E1A5202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FD33-88A0-4E24-9AC7-A93CA115A6BF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1FA1-99B0-4E60-B014-121938247D4A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FF61-C8EA-46D6-9DFF-0C18BC8588A9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E714-E024-42B8-BB2D-9872DEC881A2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D95B-0A91-4F7A-B96F-0F09E0DC1F83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E792-9474-4DE7-AE83-0C401B9F9401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2CDE-1BE6-4300-ADD9-3505A5191E66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cpanet.org/media/releases/2006/take_as_directed.php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ophthalmologyweb.com/" TargetMode="External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harrisinteractive.com/news/allnewsbydate.asp?NewsID=904" TargetMode="External"/><Relationship Id="rId2" Type="http://schemas.openxmlformats.org/officeDocument/2006/relationships/hyperlink" Target="http://www.ashp.org/s_ashp/docs/files/PR_Over65.pdf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69676d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69676d"/>
                </a:solidFill>
                <a:latin typeface="Times New Roman"/>
              </a:rPr>
              <a:t>Основне струков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7"/>
          <p:cNvSpPr/>
          <p:nvPr/>
        </p:nvSpPr>
        <p:spPr>
          <a:xfrm>
            <a:off x="1763640" y="3124080"/>
            <a:ext cx="561672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69676d"/>
                </a:solidFill>
                <a:latin typeface="Times New Roman"/>
              </a:rPr>
              <a:t>11. наставна јединица (једанаест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76d"/>
                </a:solidFill>
                <a:latin typeface="Times New Roman"/>
              </a:rPr>
              <a:t>Вештина комуникације код спровођења дијагностичко терапијских процед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4053960" y="5877000"/>
            <a:ext cx="32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9676d"/>
                </a:solidFill>
                <a:latin typeface="Times New Roman"/>
              </a:rPr>
              <a:t>Доц. др Сунчица Срећко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Двосмерна комуникациј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071360" y="1447920"/>
            <a:ext cx="786276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ључни елемент за постизање добре комплијансе је развити однос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верења, емпатије и сигурности да ће лекар поступити у интересу пациј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обра комуникација зависи од доброг слуш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могућити пацијенту да поставља питања, схвати озбиљност свог поремећаја, извага предност и недостатке предложеног дијагностичког и терапијског пл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Комуникациј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71680" y="1447560"/>
            <a:ext cx="85723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екар траба да говори полако, јасно и довољно гласн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једноставите информације, не користити медицинску терминологиј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ржите се једне теме јер преоптерећеност информецијама може да збуни пацијента (најпре дискутујте природу болести, затим терапијске опциј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езбеди јасно објашњење о начину узимања терапије и предузимању дијагностичке процедуре, објашњење зашто је то неопходно и шта се очекује у току третма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ацијенту се морају објаснити сви нежељени ефекти предузимања као и непредузимања наведених терапијских поступа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исана упутства омогућавају пацијенту да касније у мање стресним условима прегледа ваше инструкц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мажу да се избегну евентуалне грешке узроковане лошим разумевањем  лекара и пацијен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днос поверења између лекара и пацијента омогућава лекару да правилно сагледа стање пацијента и процени да ли је одсуство ефикасности лека резултат не раговања на терапију или не узимања терап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ацијент мора имати активну улога у лечењу и мора преузети одговорност за своје здравстено стањ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штовање пацијентове аутономије и приступ као равномерном партнеру  олакшава доношење заједничке одлук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Добра комуникација је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себно важн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лучају сложених здравствених проблема који укључују ангажовање више различитих специјали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Обједињени дијагностичко терапијски план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 једноставнији, омогућава избегавање непотребног понављања лабораторијских и дијагностичких тестова, помаже смањивању броја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нежељених ефеката и интеракције са другим лекови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штеди новац и врем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Дефиниције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700" spc="-1" strike="noStrike">
                <a:solidFill>
                  <a:srgbClr val="000000"/>
                </a:solidFill>
                <a:latin typeface="Calibri"/>
              </a:rPr>
              <a:t>Комплијанса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тепен у коме пацијент узима прописану терапиј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Да, узимам лекове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700" spc="-1" strike="noStrike">
                <a:solidFill>
                  <a:srgbClr val="000000"/>
                </a:solidFill>
                <a:latin typeface="Calibri"/>
              </a:rPr>
              <a:t>Адхеренција</a:t>
            </a:r>
            <a:r>
              <a:rPr b="0" i="1" lang="sr-RS" sz="27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степен у коме пацијент узима терапију на начин како му је прописа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Да, узимам лекови који су прописани, као што је прописано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700" spc="-1" strike="noStrike">
                <a:solidFill>
                  <a:srgbClr val="000000"/>
                </a:solidFill>
                <a:latin typeface="Calibri"/>
              </a:rPr>
              <a:t>Перзистенциј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: дужина времена током ког пацијент наставља да узима прописане леков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Да, узимам лекове током последњих 6 месеци као што је прописа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Дискомплијанса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 користи да прикаже тешкоће у узимању прописане терапије условљене неким физичким проблемом пацијента нпр. артритис, слепи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Алијанс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представља посебан облик адхеренције код које је потребна подршка околине пацијента у спровођењу терапијског поступ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Лекови не делују ако их пацијент не узима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.S. Surgeon General C. Everett Koop, MD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Најчешћи проблеми у терапији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цијент не користи терапију редов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цијент не реагује на терапију или постоји недовољна ефикас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жељени ефекти терап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1356840" y="13568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207720" indent="-16092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Лошу комплијансу је тешко откри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7720" indent="-16092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ико нема комплијансу 100% и сваки пацијент повремено изостави неку доз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7720" indent="-16092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лико се то често дешав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7720" indent="-16092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епен комплијансе расте непосредно пре заказане контроле и добијени резултати не приказују често реално стање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ite coat adher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7720" indent="-16092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 лекари и пацијенти прецењују комплијан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Значај комплијансе 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214280" y="5929200"/>
            <a:ext cx="8229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ieszk N, Patel R, Heaberlin A, et al. Detection of medication nonadherence through review of pharmacy claims data. Am J Health Syst Pharm 2003 Feb 15;60(4):360-6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Размере проблема комплијансе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142640" y="1447920"/>
            <a:ext cx="779148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Већина пацијената верује да има добру комплијанс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7%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зјављује да строго прати прописане д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5%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казује известан степен некомплијан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3%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 подигне прописане леко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лиз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50%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кине терапију током првих 6 месе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омплијанса не зависи од пола и година, среће се код свих степена образовања и социјално-економског стату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terberg L, Blaschke T. Adherence to medication. N Engl J Med. 2005;353:487-4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Community Pharmacists Association Web site. Take As Directed: A Prescription Not Followed. December 15, 2006. Available at:</a:t>
            </a:r>
            <a:r>
              <a:rPr b="0" lang="en-US" sz="1200" spc="-1" strike="noStrike" u="sng">
                <a:solidFill>
                  <a:srgbClr val="410082"/>
                </a:solidFill>
                <a:uFillTx/>
                <a:latin typeface="Calibri"/>
                <a:hlinkClick r:id="rId1"/>
              </a:rPr>
              <a:t>www.ncpanet.org/media/releases/2006/take_as_directed.ph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(Accessed July 1, 200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dstrom BL, Friedman DS,Mozaffari E, Quigley HA,Walker AM. Persistence and adherence with topical glaucoma therapy. Am J Ophthalmol. 2005;140:598-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ормисање, едуковање пацијента и развијање међусобне добре комуникације су предуслови доброг исхода леч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214200" y="3571920"/>
            <a:ext cx="2971800" cy="40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теракција пацијента и система здравствене заш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ба доступност или пропуштање заказаних терм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ош третман од стране здравствених ра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доступност лек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кључивање различитих терапиј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доступност апот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сока цена л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457200" y="228600"/>
            <a:ext cx="73152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оша комуникација између лекара и пациј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ацијент слабо разуме природу своје бол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ацијент слабо разуме корист и ризик третм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ацијент слабо разуме правилно коришћење лек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писани  терапијски режим је сложен за пациј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6095880" y="4114800"/>
            <a:ext cx="3048120" cy="22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теракција лекара и система здравствене заш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познавање цена лек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познавање система функционисања осигурањ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довољна сатисфакција пос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7"/>
          <p:cNvSpPr/>
          <p:nvPr/>
        </p:nvSpPr>
        <p:spPr>
          <a:xfrm>
            <a:off x="3809880" y="3657600"/>
            <a:ext cx="1752840" cy="1752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8"/>
          <p:cNvSpPr/>
          <p:nvPr/>
        </p:nvSpPr>
        <p:spPr>
          <a:xfrm>
            <a:off x="1981080" y="1752480"/>
            <a:ext cx="1752840" cy="1752840"/>
          </a:xfrm>
          <a:prstGeom prst="ellipse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9"/>
          <p:cNvSpPr/>
          <p:nvPr/>
        </p:nvSpPr>
        <p:spPr>
          <a:xfrm>
            <a:off x="5715000" y="1676520"/>
            <a:ext cx="1752480" cy="17524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0"/>
          <p:cNvSpPr/>
          <p:nvPr/>
        </p:nvSpPr>
        <p:spPr>
          <a:xfrm>
            <a:off x="3962520" y="2133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>
            <a:off x="3200400" y="36576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2"/>
          <p:cNvSpPr/>
          <p:nvPr/>
        </p:nvSpPr>
        <p:spPr>
          <a:xfrm flipV="1">
            <a:off x="5410080" y="3124080"/>
            <a:ext cx="4572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3"/>
          <p:cNvSpPr/>
          <p:nvPr/>
        </p:nvSpPr>
        <p:spPr>
          <a:xfrm flipH="1" flipV="1">
            <a:off x="3504960" y="3429000"/>
            <a:ext cx="5331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5"/>
          <p:cNvSpPr/>
          <p:nvPr/>
        </p:nvSpPr>
        <p:spPr>
          <a:xfrm flipH="1">
            <a:off x="3886200" y="25146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6"/>
          <p:cNvSpPr/>
          <p:nvPr/>
        </p:nvSpPr>
        <p:spPr>
          <a:xfrm flipH="1">
            <a:off x="5181480" y="297180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2286000" y="2362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ције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60958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к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4191120" y="41148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дравствени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0"/>
          <p:cNvSpPr/>
          <p:nvPr/>
        </p:nvSpPr>
        <p:spPr>
          <a:xfrm>
            <a:off x="304920" y="6400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10082"/>
                </a:solidFill>
                <a:uFillTx/>
                <a:latin typeface="Arial"/>
                <a:hlinkClick r:id="rId1"/>
              </a:rPr>
              <a:t>http://www.ophthalmologyweb.com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69666e"/>
                </a:solidFill>
                <a:latin typeface="Calibri"/>
              </a:rPr>
              <a:t>Фактора који доприносе лошој адхеренцији 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186920" y="1557360"/>
            <a:ext cx="67374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туацио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ловљени ле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цијент је раз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ствени систем и лекар је раз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69666e"/>
                </a:solidFill>
                <a:latin typeface="Calibri"/>
              </a:rPr>
              <a:t>Ситуациони 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ромене рутине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мале свакодневне промене као путовање, одмор, одлазак на прославе, смрт члана породице, појава друге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оше временске прилике које ометају пацијента да подигне лек из апоте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3000" y="142560"/>
            <a:ext cx="771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Условљени леком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ежељени ефек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коро половина испитаника наводи да је разлог не узимања лекова забринутост због нежењених ефек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scription Drug Compliance a Significant Challenge for Many Patients. Harris Interactive Web site. March 29, 2005. Available at:</a:t>
            </a:r>
            <a:r>
              <a:rPr b="0" lang="en-US" sz="1000" spc="-1" strike="noStrike" u="sng">
                <a:solidFill>
                  <a:srgbClr val="410082"/>
                </a:solidFill>
                <a:uFillTx/>
                <a:latin typeface="Calibri"/>
                <a:ea typeface="ＭＳ Ｐゴシック"/>
                <a:hlinkClick r:id="rId1"/>
              </a:rPr>
              <a:t>www.harrisinteractive.com/news/allnewsbydate.asp?NewsID=90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(Accessed July 1, 200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Здравствени или објективни разло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могућност да се стисне бочица и укапа лек у око због артритиса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исувише мала слова на бочицама лекова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т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шкоћа са гутањем таблета, набављање ле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ревише леко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гора комплијан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Међу пацијентим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година и старијим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више од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53%)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зима три и више лек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чак једна трећина узима осам или више прописаних ле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erican Society of Health-System Pharmacists Web site. Medication Use Among Older Americans. June 2001:5. Available at:</a:t>
            </a:r>
            <a:r>
              <a:rPr b="0" lang="en-US" sz="1000" spc="-1" strike="noStrike" u="sng">
                <a:solidFill>
                  <a:srgbClr val="410082"/>
                </a:solidFill>
                <a:uFillTx/>
                <a:latin typeface="Calibri"/>
                <a:ea typeface="ＭＳ Ｐゴシック"/>
                <a:hlinkClick r:id="rId2"/>
              </a:rPr>
              <a:t>www.ashp.org/s_ashp/docs/files/PR_Over65.pdf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(Accessed July 2, 2008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Цена лека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ајмање један од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Американаца наводи цену лека као разлог не узимања терап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nnedy J, Morgan S. A cross-national study of prescription nonadherence due to cost: data from the Joint Canada-United States Survey of Health. Clin Ther 2006 Aug;28(8): 1217-2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Разлози не узимања леков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пш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цијент (вољни разлоз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цијент (невољни разлоз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ек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Општи предиктори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ужина леч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ложеност терапијског поступ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дсуство подрш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Проблем пацијент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ацијенти се често устручавају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ли нису у стању да питају лека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ацијенти се не слажу са мишљењем лекар или негирају своје здравствене проблеме нарочито у случају у почетку асимптоматских боле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онекад  је тешко убедити пацијента да је неопходан доживотан третман неке боле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ацијент не верује да је третман ефикаса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предузима самостално лечење или самоиницијативно прекида терапиј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Пацијент-вољни разлози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Забрнутст око нежељених ефеката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третман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се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може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доживљавати горе од саме болести, лек лошег укуса или мирис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Рестрикције условљене терапијом (избегавање сунца, алкохола или млечних производа током терапије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Слаба перцепција ефикасности лечењ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Стигм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омпликовани терапијски режими, ремећење дневних актив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Цен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Доступност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Брига око завис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Пацијент невољни разлози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борав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патични пациј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гирање болести и њеног знача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пољни фак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еразумевање или погрешно тума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њ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пут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бринутост око трошкова леч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 u="sng">
                <a:solidFill>
                  <a:srgbClr val="69666e"/>
                </a:solidFill>
                <a:uFillTx/>
                <a:latin typeface="Calibri"/>
              </a:rPr>
              <a:t>Лекар је проблем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ош однос између лекара и пациј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дсуство емпат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пружање информација/лоша комуник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адекватно праћење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Проблеми 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елики број пацијена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краћивање времена које посвећујемо пације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оше комуникације између лекара и пациј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Болести 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олести које угрожавају жив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пресија и узнемире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сихоз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гнитивна оштећ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4674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69666e"/>
                </a:solidFill>
                <a:latin typeface="Calibri"/>
              </a:rPr>
              <a:t>Резултат лоше адхеренције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920" y="1371600"/>
            <a:ext cx="7338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ћа стопа морбидитета и морталите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већање трошкова лечења и већи степен незадовољства пацијен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ћа учесталост компликација, броја непотребних дијагностичких тестова, контролних прегледа и интервенц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Лошији квалитет живота пацијен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ћа цена лечењ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угорочно лоша адхеренција поред медицинског представља и социјално економски пробле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3"/>
          <p:cNvSpPr/>
          <p:nvPr/>
        </p:nvSpPr>
        <p:spPr>
          <a:xfrm>
            <a:off x="1116000" y="5732640"/>
            <a:ext cx="74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Zhang NJ, Terry A, McHorney CA. Impact of health literacy on medication adherence: a systematic review and meta-analysis. Ann Pharmacother 2014;48:741–75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Адхеренција код старих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тарење је праћено честим физичким и менталним сметња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потребом више лекова и повећаним ризиком од интер-реакција међу лековима као и нежељених ефекатима леков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Дуплирање доза услед заборавнос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Лекар мора поједноставити лечење коришћењем једног лека за два циља, смањивањем доза што доприноси побољшању адхеренције и смањује ризик од интереакц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тарење компромитује функцију многих органа па је потребно смањити дозу лекова како би се избегли нежењени ефекти леко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69666e"/>
                </a:solidFill>
                <a:latin typeface="Calibri"/>
              </a:rPr>
              <a:t>Начини побољшања комплијансе 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бољшање едукације пацијента о природи болести и значају праћења терапијског протокол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једностављивање дозирања, односно коришћење кад год је могуће фиксних комбинација лекова и депо препара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авање прецизних инструкција о правилном узимању лека дозирању, начину и времену узима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безбедити за пацијента писану инструкцију о правилном уношењу лек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цењује се да 40 до 80% пружених медицинских информација пацијенти забораве одм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Kessels, RP Patients’ memory for medical information.. J R Soc Med. (2003).96 219–22</a:t>
            </a:r>
            <a:r>
              <a:rPr b="0" i="1" lang="sr-C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69666e"/>
                </a:solidFill>
                <a:latin typeface="Calibri"/>
              </a:rPr>
              <a:t>Начини побољшања комплијансе 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ражите од пацијента да вам понови оно о чему сте дискутова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онтинуирано реинформисати пацијента зашто је узимање лекова важ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ористити графиконе, модел или слике које објашњавају природу и озбиљност боле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ад год је могуће упутити пацијента на групе за подршк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69666e"/>
                </a:solidFill>
                <a:latin typeface="Calibri"/>
              </a:rPr>
              <a:t>Начини побољшања комплијансе 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Водите рачуна да је пацијент разумео вас и да сте ви разумели њег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емојте једноставно пита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да ли узимате лекове како су прописан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рво питајт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оје лекове узимат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ада и колико чест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Тражите да вам демонстрирају њихов метод (бочица капи,  инхалатори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колико уочите недостатке трудите се да им поправите техник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ацијенти који пропуштају заказане контроле имају гору комплијансу у односу на оне који редовно долаз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Слање подсетника (телефонски позив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смс, писмом, електронским путе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69666e"/>
                </a:solidFill>
                <a:latin typeface="Calibri"/>
              </a:rPr>
              <a:t>Начини побољшања комплијансе 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Једноставно дозир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ажно је консултовати се са пацијентом о дозирању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о се узимање лекова уклапа у њихов животни стил и дневне актив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д год је могуће повезати узимање лекова са дневним активност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но укључити чланове породица, социјалне раднике, наставн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 u="sng">
                <a:solidFill>
                  <a:srgbClr val="69666e"/>
                </a:solidFill>
                <a:uFillTx/>
                <a:latin typeface="Calibri"/>
              </a:rPr>
              <a:t>Опрез 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оша комплијанса не би смела да се помеша са одсуством ефикасности л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зултат је увођење нових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потребних допунских дијагностичких тест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када чак и непотребне хирушке интервен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већава цену лечења и умањује квалитет живота пацијен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69666e"/>
                </a:solidFill>
                <a:latin typeface="Calibri"/>
              </a:rPr>
              <a:t>Савети за побољшања комплијансе </a:t>
            </a:r>
            <a:endParaRPr b="0" lang="en-US" sz="32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34960" y="1447560"/>
            <a:ext cx="4708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утије са више одељака за сваки дан у недељ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нтејнери са електронским поклопцем који се оглашавају светлом или звуком и бележе присту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моријска помагала за пацијенте : подсетник картице, аларме на телефонима, сатовима, вођење дневника терапије, везивање терапије за дневне активности као што су прање зуба, омиљену ТВ емисиј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лектронски мониторинг издатих лекова од стране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фармацеут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http://p.lefux.com/61/20100713/A1615000BV/pill-case-box-holder-7days-1-Gallay.jpg"/>
          <p:cNvPicPr/>
          <p:nvPr/>
        </p:nvPicPr>
        <p:blipFill>
          <a:blip r:embed="rId1"/>
          <a:srcRect l="3807" t="17135" r="0" b="25765"/>
          <a:stretch/>
        </p:blipFill>
        <p:spPr>
          <a:xfrm>
            <a:off x="6248520" y="2000160"/>
            <a:ext cx="28954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93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9666e"/>
                </a:solidFill>
                <a:latin typeface="Calibri"/>
              </a:rPr>
              <a:t>Припрема пацијента за дијагностичке и лабораторијске процедуре</a:t>
            </a:r>
            <a:endParaRPr b="0" lang="en-US" sz="32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ви корак припреме пацијента подразумева пружање информација и едукацију пацијен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нформисање пацијента или старатеља прати исти образац информисања без обзира на место и тип испитивањ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Специфичн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ипрем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пацијент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завис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од локације,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рст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тепена инвазивности дијагностичке и терапијске процедур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434960" y="895320"/>
            <a:ext cx="749952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уникација представља сложен процес и захтева индивидуално прилагођа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рија популација је хетерогенија од млађ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зличита животна искуства и културне разлике,  утичу на перцепцију болести,  способност комуникације и спремност на прихватање предложених терапијских и дијагностичких поступ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785520" y="285840"/>
            <a:ext cx="8148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ја је сврха тес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таљан опис поступка, укључујући место и метод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јаснити да ли ће процедура бити праћена болом или нелагодношћ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случају забринутости у вези бола током поступка предложити технику дисања или визуелизациј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педијатријске пацијенте користити играчке  за приказивање поступ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колико је потребно, употреба седатива или анестетика у циљу ублаживања анксиозности и очекиваног бола током процедур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дити рачуна о културолошким и друштвеним разликама (стидљивост) и обезбедити психолошку подршк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28800" y="285840"/>
            <a:ext cx="82152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ати упутство у вези са исхраном, узимањем течности, узимањем лекова и активностим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итати за коришћену терапију, као и друге процедуре које могу утицати на резултате те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јаснити пацијенту зашто је важно да се строго придржава упутств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дити рачуна о анксиозности у вези са резултатима те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дити рачуна како предложене дијагностичке процедуре утичу на трудноћу и дојењ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авестити пацијента какао предложене дијагностичке процедуре утичу на психомоторне активнос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ужити охрабрујуће окружење за пацијен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храбрите пацијента да постављају питања и своје бриге вербализу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1142640" y="214200"/>
            <a:ext cx="77914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нформишите 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да ли пацијент има алергију на дезинфицијенс, анестетик, контраст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материјала, леков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катетер, или подв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з а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ће се користити у поступк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коли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пацијент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пав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треба га лагано пробудити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и дозволи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ти м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могућност да постане оријентисана пре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провођења дијагностичке процедур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ацијенте у к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оми или несвесн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пацијент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ажљиво третирати јер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иако нису у стању да одговоре, они могу бити у стању да чују и разумеј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Предвидите случајеве у којима пацијент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ова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сарадња може бити проблем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нгаж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оват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другу особу да помогн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како би се обезбедило сигурно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квалитетно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спровођење дијагностичког поступка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за све укључен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69666e"/>
                </a:solidFill>
                <a:latin typeface="Calibri"/>
              </a:rPr>
              <a:t>Припрема пацијента за извођење хируршке интервенције и узимање информисаног пристанка </a:t>
            </a:r>
            <a:endParaRPr b="0" lang="en-US" sz="32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34960" y="2492280"/>
            <a:ext cx="7499520" cy="37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оперативну процен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оперативни закључ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оперативну припр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кон одговарајућег информисања,  потписивање информисаног пристанка пациј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66e"/>
                </a:solidFill>
                <a:latin typeface="Calibri"/>
              </a:rPr>
              <a:t>Разлози заборављања медицинских информација и неспоразума</a:t>
            </a:r>
            <a:endParaRPr b="0" lang="en-US" sz="36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476000" y="2349000"/>
            <a:ext cx="745812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кар користи компликовану медицинску терминалог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чин давања информација усмено/у писаној фор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зак ниво образовања пацијента,  специфична очекивања и предрасуд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69666e"/>
                </a:solidFill>
                <a:latin typeface="Calibri"/>
              </a:rPr>
              <a:t>Информације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ајући у виду уочене границе краткотрајног памћења као и забринутост и узнемиреност који могу отежати разумевање датих инструкција важно је да лекар пажљиво размотри начин пружања информација у овом пери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тималним се сматра комбинација вербалне, писане и визуелне медицинске информа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69666e"/>
                </a:solidFill>
                <a:latin typeface="Calibri"/>
              </a:rPr>
              <a:t>Информације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ште информације везане за врсту планиране хируршке интервен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олико постоје различите методе објаснити зашто се баш тај тип интервенције препоручу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олико постоје друге могућности лечења дати пацијенту информацију о њ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нети предности и резултате препоручене процеду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69666e"/>
                </a:solidFill>
                <a:latin typeface="Calibri"/>
              </a:rPr>
              <a:t>Информације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скуство хирурга у обављању препоручене хируршке интервенциј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рста анестез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зимање лекова у преоперативном период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перација  у дневној болници или је потребно лежање у хоспиталним условим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изицима и могуће компликације хируршке интервенције и анестез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исуство бола и могућност његове контрол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69666e"/>
                </a:solidFill>
                <a:latin typeface="Calibri"/>
              </a:rPr>
              <a:t>Информације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Шта се очекује у постоперативном току, дужина хоспитализације, могуће компликације, нега, дужина опоравка, терапијски и хигијенско дијететским режим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ање радна способност, трудноћа, дојење, употребе других лекова и суплемената након обављене хируршке интервенције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изици који проистичу из одлагања или одустајња од хируршке интервенц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ветовање пацијента уколико жели мишљење другог лекар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руга питања везана за операцију или уколико је потребно додатна обавештењ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69666e"/>
                </a:solidFill>
                <a:latin typeface="Calibri"/>
              </a:rPr>
              <a:t>Информисани пристанак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 циљу избегавања неспоразума након обављања детаљног разговора са пацијентом, пацијенту дати у писаној форми горе наведене информације како би се пацијент додатно реинформисао у случају потреб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колико пацијент има додатна питања упутити га на додатни извор информациј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оврити да ли је пацијент у потпуности разуме поред корисности и ризике које са собом носи препоручена хируршка интервенциј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ек након тога пацијент потписује информисани пристанак за предложену хируршку интервенциј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357200" y="500040"/>
            <a:ext cx="7577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а ли је могуће са мало времена које имамо постићи добру комуникацију са пацијент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требно је комуницирати ˝паметније 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лагодити комуникацију индивидуал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лно унапређивање вештине комуникациј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9666e"/>
                </a:solidFill>
                <a:latin typeface="Calibri"/>
              </a:rPr>
              <a:t>Пример 1: инструкције за пацијента</a:t>
            </a:r>
            <a:br>
              <a:rPr sz="3600"/>
            </a:br>
            <a:r>
              <a:rPr b="0" lang="sr-RS" sz="3600" spc="-1" strike="noStrike">
                <a:solidFill>
                  <a:srgbClr val="69666e"/>
                </a:solidFill>
                <a:latin typeface="Calibri"/>
              </a:rPr>
              <a:t>Ехокардиограм </a:t>
            </a:r>
            <a:endParaRPr b="0" lang="en-US" sz="36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рипрема за преглед: не постоји специфична припрема за овај преглед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реглед се изводи ултразвучним апаратом и безболана 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У току прегледа бићете замољени да се свучете од струка навиш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ЕКГ монитор ће се користити током преглед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реглед ће трајати око 30 мину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Након прегледа резултате ће те добити од свог лекар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Можете наставити све нормалне актив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Ако имате додатних питања у вези прегледа слободно питајте вашег лекар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Пример 2: инструкција за пацијента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аш крвни притисак је 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/9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аш циљни притисак је мање од 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/8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јета и физичка активност су кључ успешне контроле хипертенз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аша терапија је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alapril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10 mg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једна таблета днев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змите ваш нови лек чим устане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Шетајте ујутру и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поподн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збаците алкохол и смањите унос со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ођите на контролу за 2 недеље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9666e"/>
                </a:solidFill>
                <a:latin typeface="Calibri"/>
              </a:rPr>
              <a:t>Пример 3: информатор за пацијента</a:t>
            </a:r>
            <a:br>
              <a:rPr sz="3600"/>
            </a:br>
            <a:r>
              <a:rPr b="0" lang="sr-RS" sz="3600" spc="-1" strike="noStrike">
                <a:solidFill>
                  <a:srgbClr val="69666e"/>
                </a:solidFill>
                <a:latin typeface="Calibri"/>
              </a:rPr>
              <a:t>Операција катаракте</a:t>
            </a:r>
            <a:endParaRPr b="0" lang="en-US" sz="36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Шта треба знати пре операције катарак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Опште информације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атаракта представља замућење природног сочи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Једини начин да око које има катаракту поврати вид је опер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атаракта се из ока уклања стандардном операцијом или ултразвук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 току операције уграђује се вештачко интраокуларно сочиво чију диоптрију, врсту материјала и дизајн одређује доктор индивидуално за сваког пацијен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нформатор за пацијенте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ва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цијен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луч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пера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таракт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поруч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сциплинова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шт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ав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оприне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рже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порав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ервен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треб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рад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гле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ККС, уреу, креатинин, гликем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ернистички преглед и мишљење анестезиолога о операцији у локалној анестез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56840" y="142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нформатор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000080" y="1142640"/>
            <a:ext cx="8143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ет дана пред интервенцију у око предвиђено за операцију укапавају се капи Floxal (Marocen) 4x днев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колико редовно узимате неку терапију потребно је да је узмете и на дан интерв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авезан је разговор са анестезиологом који присуствује све време операције заједно са офталмолог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оком интервенције пацијент комуницира са доктором, чује шта се дешава, али не осећа никакав б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колико осетите бол током операције, одмах то треба да кажете докто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Информатор за пацијента</a:t>
            </a:r>
            <a:br>
              <a:rPr sz="3900"/>
            </a:b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операција катаракте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285920" y="1447560"/>
            <a:ext cx="76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цедур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клањање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катаракт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бављ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перационој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ал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ерилним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словим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ај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20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ак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ину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ширењ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ениц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перациј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бављ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окалној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пљичној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нестез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ав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ал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з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еличин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виц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ожњач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ју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ир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едходн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лтразвучн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ситњен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родн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чив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грађуј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авитљив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траокуларн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чи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лустрована брошур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439" name="Picture 2" descr="C:\Users\Sunshine\Desktop\img-katarakta-1.jpg"/>
          <p:cNvPicPr/>
          <p:nvPr/>
        </p:nvPicPr>
        <p:blipFill>
          <a:blip r:embed="rId1"/>
          <a:stretch/>
        </p:blipFill>
        <p:spPr>
          <a:xfrm>
            <a:off x="1928880" y="17859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C:\Users\Sunshine\Desktop\img-katarakta-2.jpg"/>
          <p:cNvPicPr/>
          <p:nvPr/>
        </p:nvPicPr>
        <p:blipFill>
          <a:blip r:embed="rId2"/>
          <a:stretch/>
        </p:blipFill>
        <p:spPr>
          <a:xfrm>
            <a:off x="5429160" y="17859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C:\Users\Sunshine\Desktop\img-katarakta-3.jpg"/>
          <p:cNvPicPr/>
          <p:nvPr/>
        </p:nvPicPr>
        <p:blipFill>
          <a:blip r:embed="rId3"/>
          <a:stretch/>
        </p:blipFill>
        <p:spPr>
          <a:xfrm>
            <a:off x="1785960" y="4572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42" name="TextBox 6"/>
          <p:cNvSpPr/>
          <p:nvPr/>
        </p:nvSpPr>
        <p:spPr>
          <a:xfrm>
            <a:off x="1143000" y="378612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рак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ултразвучно ломљење и усисаваље соч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7"/>
          <p:cNvSpPr/>
          <p:nvPr/>
        </p:nvSpPr>
        <p:spPr>
          <a:xfrm>
            <a:off x="5143680" y="3786120"/>
            <a:ext cx="36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рак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постављање савитљивог вештачког сочива у 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8"/>
          <p:cNvSpPr/>
          <p:nvPr/>
        </p:nvSpPr>
        <p:spPr>
          <a:xfrm>
            <a:off x="3929040" y="542916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рак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позиционирање вештачког сочива и затварање улазног отв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нформатор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катаракт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требно да лежите у болниц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перациј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ожет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дет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ућ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бавезн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атњ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периса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ћ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вијено са пластично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шкољко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јо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ћ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е спават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шти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Шкољка се ски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 стављај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п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нструкцијам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је да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окт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ућ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пустит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дмарат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лобод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јест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ледат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елевиз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стоперативн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етман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пим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а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дељ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нтервен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обичаје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традан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иметите побољшањ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и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је з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ачан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сход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треб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дељ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ан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в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трол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каза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ре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нформатор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ормалн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ацијент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нтервенциј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сећ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лаг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ребуцкањ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лагодност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ребал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же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вози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врати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сл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ок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нтервен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мај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м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колик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ма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атаракт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б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вид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ћ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вам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уравнотежен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због катаракте другог ок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акођ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же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ма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заб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штењ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вор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ветлос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лаг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црве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в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в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ормалн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степен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стај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редних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ок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асвим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порав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Резултати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зависе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пацијентове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дисциплине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примени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прописане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Кључни фактори добре комплијансе дијагностичких и терапијскух процедура су: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2285640"/>
            <a:ext cx="74995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форм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дук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уник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нформатор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071360" y="1447560"/>
            <a:ext cx="78627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кон операциј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е стављања капи руке добро опрати сапуном и вод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о не дира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рља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ука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колио имате животиње бригу о њима препустити другоме наредних месец д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озволи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ђ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во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апун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шампон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редних 7 д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диза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жак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рет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агиња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упај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езер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ец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азен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редних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сец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бегавај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задимљен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осториј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ужв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радском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евоз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шминкај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е и не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ристити 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аскар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редних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сец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Постоперативна видна оштрина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 зависи само од коректно урађене операције него и од стања мрежњаче и видног жив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себан опрез захтевају пацијенти са активним запаљењем ока, високом кратковидошћу, дијабетесом, глаукомом, пацијенти који узимају неке лекове и пацијенти са само једним функционалним о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Ризици хирургије катаракте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омпликације у току операције катаракте су ретке и јављају се у 1-2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Замућење рожњач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Одвајање мрежњаче 1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Тешка крварења 1-2 на 1000 случаје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ромене облика зенице, оштећење дужице, промена положаја капака, секундарни глауком, дислокација сочи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колико имате било какава друга питања или су вам потребна додатна обавештења слободни сте да продискутујете са својим доктор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Ризици услед одлагања или одустајања од операције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213920" y="1447560"/>
            <a:ext cx="7720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перација катаракте најчешће није хитна интервен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ланира се у зависности од степена оштећења вида и ваших индивидуалних потреб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пак у случају дуготрајног одлагања може доћи до тога да катаракта постане исувише тврда што повећава оперативни ризи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етко може доћи до напада глаукома или јаког запаљења услед презрелости катаракте што може довести до трајног оштећења ви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нформисани пристанак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аки пацијент добија штампани информа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ојим потписом потврђује да је прочитао и разумео природу своје болести, да је упознат са врстом планиране интеренције, врстом анестезије, ризицима и могућим компликацијама хируршке интервен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Закључак 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ацијент мора преузети одговорност за своје здравље и прихватити терапијске и дијагностичке процедуре које доприносе побољшању његовог здравља и квалитету његовог живо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Лекар мора помоћи пацијенту да разуме значај терапијских и дијагностичких процедура као и последице не предузимања ист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отребан је мултидисциплинарни приступ који укључује лекара, медицинског техничара, чланове породице, социјалне раднике, групе за подршку, фармацеуте у циљу веће ефикасности лечењ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434960" y="620280"/>
            <a:ext cx="7499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формисање пацијента прати исти образац информисања без обзира на место и тип дијагностичке и терапијске процедур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кон обављања клиничког прегледа, постављања радне дијагнозе  и индикације за дијагностичку или терапијску процедуру неопходно је да лекар пацијенту,  старатељу или овлашћеном члану породице уколико пацијент  није у стању да самостално доноси одлуку, детаљно образложи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рироду болести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злоге о потреби  извођења наведене процедуре као и ризике извођења или не прихватања ист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План лечењ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ора бити једностав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аћен писаном инструкциј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План лечења треба да садржи: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дну дијагноз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формисање и едуковање пацијента о болести као и предложеним дијагностичким и терапијским процедур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Циљ леч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олико је доступан, информатор за пацијента у писаној фор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агласност пациј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1:19:47Z</dcterms:created>
  <dc:creator>Sunshine</dc:creator>
  <dc:description/>
  <dc:language>en-US</dc:language>
  <cp:lastModifiedBy>Slavica</cp:lastModifiedBy>
  <dcterms:modified xsi:type="dcterms:W3CDTF">2017-01-30T06:18:03Z</dcterms:modified>
  <cp:revision>206</cp:revision>
  <dc:subject/>
  <dc:title>Вештина комуникације код спровођења дијагностичко терапијских процедура</dc:title>
</cp:coreProperties>
</file>